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13.png" ContentType="image/png"/>
  <Override PartName="/ppt/media/image7.png" ContentType="image/png"/>
  <Override PartName="/ppt/media/image1.jpeg" ContentType="image/jpeg"/>
  <Override PartName="/ppt/media/image25.jpeg" ContentType="image/jpeg"/>
  <Override PartName="/ppt/media/image3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6.jpeg" ContentType="image/jpeg"/>
  <Override PartName="/ppt/media/image27.png" ContentType="image/png"/>
  <Override PartName="/ppt/media/image30.wmf" ContentType="image/x-wmf"/>
  <Override PartName="/ppt/media/image9.jpeg" ContentType="image/jpeg"/>
  <Override PartName="/ppt/media/image31.png" ContentType="image/png"/>
  <Override PartName="/ppt/media/image3.jpeg" ContentType="image/jpeg"/>
  <Override PartName="/ppt/media/image2.jpeg" ContentType="image/jpeg"/>
  <Override PartName="/ppt/media/image14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57560" cy="37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BCBBE3C-7CE2-48CD-BE53-969250A0C66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9A9CB8A-8C54-4E49-9DD7-726CE7CF5B5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3265560" y="511200"/>
            <a:ext cx="3395520" cy="25480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182D658-E611-4A40-8862-570D2CB66ED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3540246-7277-40B6-B026-6047366525B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3"/>
          <p:cNvSpPr/>
          <p:nvPr/>
        </p:nvSpPr>
        <p:spPr>
          <a:xfrm>
            <a:off x="3851280" y="9429840"/>
            <a:ext cx="294480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0404-BC81-4B44-8694-7F2C14D9585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-360" y="-360"/>
            <a:ext cx="36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3"/>
          <p:cNvSpPr/>
          <p:nvPr/>
        </p:nvSpPr>
        <p:spPr>
          <a:xfrm>
            <a:off x="3851280" y="9429840"/>
            <a:ext cx="294480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ACE6-04F4-44FC-86A2-F6F945DD8C6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-360" y="-360"/>
            <a:ext cx="36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90D771A-1A26-4288-811A-CBB09BE5793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7DB7BC9-43C2-40FB-B78B-A3F8A53F3E7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3263760" y="511200"/>
            <a:ext cx="3399120" cy="25480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8DF209A-0F79-4C9A-B202-786F0131603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E11D933-88F8-48C3-8FFA-6C51C4DB978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F9263D8-C36E-4BF8-804B-7A7C643D5FA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0DEFE-DDC1-49F5-A7E5-969FF74F4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8E493-EB05-4957-A870-9E3094776B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98680-67EC-4447-BBCD-0BB2AFCE1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5CB50-C783-4D0D-B7C2-4E37A3842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71C32-FDA4-40B2-9FF0-7ED54BF6DF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30807-DB3F-46A7-9574-8A2680D09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92DE4-643A-4F46-AFF3-B66726D925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667BF-3651-4453-957E-8C114D7EF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64F55-F5AC-4EE4-9856-E5EB1AF86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72E62-CB51-46DD-AE42-31EBB40B8D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32619-12E9-4133-AF3E-A3D687B24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30974-518D-4C1C-89C9-F574377E0E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Picture 8" descr="пр2"/>
          <p:cNvPicPr/>
          <p:nvPr/>
        </p:nvPicPr>
        <p:blipFill>
          <a:blip r:embed="rId2"/>
          <a:stretch/>
        </p:blipFill>
        <p:spPr>
          <a:xfrm>
            <a:off x="0" y="662472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пр 1"/>
          <p:cNvPicPr/>
          <p:nvPr/>
        </p:nvPicPr>
        <p:blipFill>
          <a:blip r:embed="rId3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47000" y="6579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B476-D96D-4AF5-985E-483E2E24E486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пр копия"/>
          <p:cNvPicPr/>
          <p:nvPr/>
        </p:nvPicPr>
        <p:blipFill>
          <a:blip r:embed="rId2"/>
          <a:stretch/>
        </p:blipFill>
        <p:spPr>
          <a:xfrm>
            <a:off x="0" y="0"/>
            <a:ext cx="9144000" cy="2638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пр2"/>
          <p:cNvPicPr/>
          <p:nvPr/>
        </p:nvPicPr>
        <p:blipFill>
          <a:blip r:embed="rId3"/>
          <a:stretch/>
        </p:blipFill>
        <p:spPr>
          <a:xfrm>
            <a:off x="0" y="6624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6"/>
          <p:cNvSpPr/>
          <p:nvPr/>
        </p:nvSpPr>
        <p:spPr>
          <a:xfrm>
            <a:off x="1260360" y="1989000"/>
            <a:ext cx="7883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  <a:ea typeface="ＭＳ Ｐゴシック"/>
              </a:rPr>
              <a:t>ФЕДЕРАЛЬНАЯ АНТИМОНОПОЛЬНАЯ СЛУЖ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079"/>
          <p:cNvSpPr/>
          <p:nvPr/>
        </p:nvSpPr>
        <p:spPr>
          <a:xfrm>
            <a:off x="468360" y="2852640"/>
            <a:ext cx="8424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О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мерах по реализации Национального плана развития конкуренции в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7524720" y="551664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B579-230D-407A-952C-92D96A7353AB}" type="slidenum">
              <a:rPr b="0" lang="ru-RU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390600" y="1208160"/>
            <a:ext cx="85057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Ограничение конкуренции органами власти продолжает занимать большую долю антимонопольных де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Статистика по делам и предупреждения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В 2016 году – возбуждено 1005 дел; выдано 3444 предуп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В 2017 году – возбуждено 428 дел; выдано 1456 предуп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На 15% возросло количество дел (262 – в 2016 году) о сговорах с участием органов влас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077"/>
          <p:cNvSpPr/>
          <p:nvPr/>
        </p:nvSpPr>
        <p:spPr>
          <a:xfrm>
            <a:off x="36360" y="90360"/>
            <a:ext cx="9041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Проблемы развития эконом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6451-038B-4866-97EA-D0AC5C20BC96}" type="slidenum">
              <a:rPr b="0" lang="ru-RU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182520" y="3718080"/>
            <a:ext cx="51339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Цифровизация эконом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Интеллектуальная собственность и информация управляют современными рын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11" descr=""/>
          <p:cNvPicPr/>
          <p:nvPr/>
        </p:nvPicPr>
        <p:blipFill>
          <a:blip r:embed="rId1"/>
          <a:stretch/>
        </p:blipFill>
        <p:spPr>
          <a:xfrm>
            <a:off x="5483160" y="4518000"/>
            <a:ext cx="2094120" cy="961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Похожее изображение"/>
          <p:cNvPicPr/>
          <p:nvPr/>
        </p:nvPicPr>
        <p:blipFill>
          <a:blip r:embed="rId2"/>
          <a:stretch/>
        </p:blipFill>
        <p:spPr>
          <a:xfrm>
            <a:off x="7985160" y="3544920"/>
            <a:ext cx="965160" cy="10540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6" descr=""/>
          <p:cNvPicPr/>
          <p:nvPr/>
        </p:nvPicPr>
        <p:blipFill>
          <a:blip r:embed="rId3"/>
          <a:stretch/>
        </p:blipFill>
        <p:spPr>
          <a:xfrm>
            <a:off x="5425920" y="5492880"/>
            <a:ext cx="1035360" cy="1035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7" descr=""/>
          <p:cNvPicPr/>
          <p:nvPr/>
        </p:nvPicPr>
        <p:blipFill>
          <a:blip r:embed="rId4"/>
          <a:stretch/>
        </p:blipFill>
        <p:spPr>
          <a:xfrm>
            <a:off x="6516720" y="5591160"/>
            <a:ext cx="2558880" cy="8208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8" descr=""/>
          <p:cNvPicPr/>
          <p:nvPr/>
        </p:nvPicPr>
        <p:blipFill>
          <a:blip r:embed="rId5"/>
          <a:stretch/>
        </p:blipFill>
        <p:spPr>
          <a:xfrm>
            <a:off x="5694480" y="3787920"/>
            <a:ext cx="1671480" cy="5587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7947000" y="4702320"/>
            <a:ext cx="10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12600" y="165240"/>
            <a:ext cx="91440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Внешние вызо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525600" y="1090440"/>
            <a:ext cx="8424720" cy="25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Экономические са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Требуется принятие взвешенных мер по импортозамещ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Необходима легализация параллельного импор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325760" y="1833120"/>
            <a:ext cx="4788000" cy="29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1030-7A94-4F04-AA4A-C1DA452137D9}" type="slidenum">
              <a:rPr b="0" lang="ru-RU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468360" y="1052640"/>
            <a:ext cx="83534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c8c93"/>
                </a:solidFill>
                <a:latin typeface="Arial"/>
                <a:ea typeface="ＭＳ Ｐゴシック"/>
              </a:rPr>
              <a:t>В условиях внешних и внутренних вызовов резервы конкуренции задействованы недостаточ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Государственная политика по развитию конкуренции –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ключевая основа государственной политики регулирования рыночной эконом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9000" y="44280"/>
            <a:ext cx="793116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ы государственной политики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8"/>
          <p:cNvSpPr/>
          <p:nvPr/>
        </p:nvSpPr>
        <p:spPr>
          <a:xfrm>
            <a:off x="201600" y="981000"/>
            <a:ext cx="87408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1. Государственная программа демонополизации экономики и развития конкуренции на рынках Российской Федерации (основные направления и первоочередные меры), утвержденная постановлением Правительства РФ от 09.03.1994 № 1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7010280" y="6608880"/>
            <a:ext cx="21337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F7C7-AEAF-4F50-BFE0-04E48D4FF576}" type="slidenum">
              <a:rPr b="0" lang="ru-RU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Заголовок 1"/>
          <p:cNvSpPr/>
          <p:nvPr/>
        </p:nvSpPr>
        <p:spPr>
          <a:xfrm>
            <a:off x="0" y="139680"/>
            <a:ext cx="9144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Программные документы предыдущих пери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611280" y="2982960"/>
            <a:ext cx="816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2. Программа развития конкуренции в Российской Федерации, утвержденная распоряжение Правительства РФ от 19.05.2009 № 691-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1209600" y="4233960"/>
            <a:ext cx="77328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3. План мероприятий («дорожная карта») «Развитие конкуренции и совершенствование антимонопольной политики», утвержденный распоряжением Правительства РФ от 28.12.2012 № 2579-р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* Исполнена в 2015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Национальный план развития конкуренции</a:t>
            </a:r>
            <a:endParaRPr b="0" lang="en-US" sz="2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284720" y="1052280"/>
            <a:ext cx="47512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Указ Президента Российской Федерации от 21.12.2017 № 618 «Об основных направлениях государственной политики по развитию конкуренции»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74A7-878A-43F9-8817-712ECFD0132E}" type="slidenum">
              <a:rPr b="0" lang="ru-RU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5" descr=""/>
          <p:cNvPicPr/>
          <p:nvPr/>
        </p:nvPicPr>
        <p:blipFill>
          <a:blip r:embed="rId1"/>
          <a:stretch/>
        </p:blipFill>
        <p:spPr>
          <a:xfrm>
            <a:off x="749160" y="907920"/>
            <a:ext cx="3095640" cy="232272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4"/>
          <p:cNvSpPr/>
          <p:nvPr/>
        </p:nvSpPr>
        <p:spPr>
          <a:xfrm>
            <a:off x="360360" y="3230640"/>
            <a:ext cx="8423280" cy="34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Национальный план развития конкур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в Российской Федерации на 2018 - 2020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документ стратегического планирования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Цели государственной поли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7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Повышение удовлетворенности потребител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7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Повышение экономической эффективности и конкурентоспособн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7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Стабильный рост и развитие многоукладной эконом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BB53-103E-4094-98B2-11F2457D9E3C}" type="slidenum">
              <a:rPr b="0" lang="ru-RU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Заголовок 1"/>
          <p:cNvSpPr/>
          <p:nvPr/>
        </p:nvSpPr>
        <p:spPr>
          <a:xfrm>
            <a:off x="0" y="44280"/>
            <a:ext cx="890280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5"/>
          <p:cNvSpPr/>
          <p:nvPr/>
        </p:nvSpPr>
        <p:spPr>
          <a:xfrm>
            <a:off x="395280" y="1719360"/>
            <a:ext cx="8481960" cy="48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57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снижение количества нарушений антимонопольного законодательства со стороны органов власти не менее чем </a:t>
            </a:r>
            <a:r>
              <a:rPr b="1" lang="ru-RU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в 2 раза</a:t>
            </a:r>
            <a:r>
              <a:rPr b="0" lang="ru-RU" sz="2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увеличение доли госзакупок, участниками которых являются только субъекты малого предпринимательства и социально ориентированные некоммерческие организации, не менее чем </a:t>
            </a:r>
            <a:r>
              <a:rPr b="1" lang="ru-RU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в 2 раза </a:t>
            </a:r>
            <a:r>
              <a:rPr b="0" lang="ru-RU" sz="2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о сравнению с 2017 годом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обеспечение во всех отраслях экономики, за исключением сфер естественных монополий, присутствия </a:t>
            </a:r>
            <a:r>
              <a:rPr b="0" lang="ru-RU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не менее 3 хозсубъектов</a:t>
            </a:r>
            <a:r>
              <a:rPr b="0" lang="ru-RU" sz="2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, не менее чем 1 из которых относится к частному бизнес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6480" y="0"/>
            <a:ext cx="793116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лючевые показатели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Прямоугольник 1"/>
          <p:cNvSpPr/>
          <p:nvPr/>
        </p:nvSpPr>
        <p:spPr>
          <a:xfrm>
            <a:off x="611280" y="1074600"/>
            <a:ext cx="841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до 2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2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0 г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9" descr=""/>
          <p:cNvPicPr/>
          <p:nvPr/>
        </p:nvPicPr>
        <p:blipFill>
          <a:blip r:embed="rId1"/>
          <a:stretch/>
        </p:blipFill>
        <p:spPr>
          <a:xfrm>
            <a:off x="5246640" y="3048120"/>
            <a:ext cx="1270080" cy="1796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4" descr="Картинки по запросу сноп белый фон"/>
          <p:cNvPicPr/>
          <p:nvPr/>
        </p:nvPicPr>
        <p:blipFill>
          <a:blip r:embed="rId2"/>
          <a:stretch/>
        </p:blipFill>
        <p:spPr>
          <a:xfrm>
            <a:off x="2903400" y="133668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161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3115-3FF4-4599-A24A-CE4288F0316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Заголовок 1"/>
          <p:cNvSpPr/>
          <p:nvPr/>
        </p:nvSpPr>
        <p:spPr>
          <a:xfrm>
            <a:off x="209520" y="900000"/>
            <a:ext cx="2017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Здравоохра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Заголовок 1"/>
          <p:cNvSpPr/>
          <p:nvPr/>
        </p:nvSpPr>
        <p:spPr>
          <a:xfrm>
            <a:off x="2284560" y="1023840"/>
            <a:ext cx="25239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Агропромышленный комплек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Заголовок 1"/>
          <p:cNvSpPr/>
          <p:nvPr/>
        </p:nvSpPr>
        <p:spPr>
          <a:xfrm>
            <a:off x="4865760" y="1050840"/>
            <a:ext cx="19764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Финансовые ры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Заголовок 1"/>
          <p:cNvSpPr/>
          <p:nvPr/>
        </p:nvSpPr>
        <p:spPr>
          <a:xfrm>
            <a:off x="7062840" y="1023840"/>
            <a:ext cx="1977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Дорожное строитель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Заголовок 1"/>
          <p:cNvSpPr/>
          <p:nvPr/>
        </p:nvSpPr>
        <p:spPr>
          <a:xfrm>
            <a:off x="58680" y="2671920"/>
            <a:ext cx="23194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Рынок социа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Заголовок 1"/>
          <p:cNvSpPr/>
          <p:nvPr/>
        </p:nvSpPr>
        <p:spPr>
          <a:xfrm>
            <a:off x="4842000" y="2771640"/>
            <a:ext cx="2232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Телекоммун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Заголовок 1"/>
          <p:cNvSpPr/>
          <p:nvPr/>
        </p:nvSpPr>
        <p:spPr>
          <a:xfrm>
            <a:off x="2560680" y="2900520"/>
            <a:ext cx="20988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Информационные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Заголовок 1"/>
          <p:cNvSpPr/>
          <p:nvPr/>
        </p:nvSpPr>
        <p:spPr>
          <a:xfrm>
            <a:off x="4968720" y="4695840"/>
            <a:ext cx="19782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Газоснаб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Заголовок 1"/>
          <p:cNvSpPr/>
          <p:nvPr/>
        </p:nvSpPr>
        <p:spPr>
          <a:xfrm>
            <a:off x="123840" y="4735440"/>
            <a:ext cx="19764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Нефть и нефтепроду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Заголовок 1"/>
          <p:cNvSpPr/>
          <p:nvPr/>
        </p:nvSpPr>
        <p:spPr>
          <a:xfrm>
            <a:off x="2513160" y="4735440"/>
            <a:ext cx="21463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мышл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Заголовок 1"/>
          <p:cNvSpPr/>
          <p:nvPr/>
        </p:nvSpPr>
        <p:spPr>
          <a:xfrm>
            <a:off x="7620120" y="2873520"/>
            <a:ext cx="8650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ЖК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Заголовок 1"/>
          <p:cNvSpPr/>
          <p:nvPr/>
        </p:nvSpPr>
        <p:spPr>
          <a:xfrm>
            <a:off x="7062840" y="4695840"/>
            <a:ext cx="1976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Транспортные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Заголовок 1"/>
          <p:cNvSpPr/>
          <p:nvPr/>
        </p:nvSpPr>
        <p:spPr>
          <a:xfrm>
            <a:off x="-1116000" y="27000"/>
            <a:ext cx="10260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Приоритетные отрасли для развития конкур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2" descr=""/>
          <p:cNvPicPr/>
          <p:nvPr/>
        </p:nvPicPr>
        <p:blipFill>
          <a:blip r:embed="rId3"/>
          <a:stretch/>
        </p:blipFill>
        <p:spPr>
          <a:xfrm>
            <a:off x="520560" y="1417680"/>
            <a:ext cx="1177920" cy="117792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36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8" descr=""/>
          <p:cNvPicPr/>
          <p:nvPr/>
        </p:nvPicPr>
        <p:blipFill>
          <a:blip r:embed="rId4"/>
          <a:stretch/>
        </p:blipFill>
        <p:spPr>
          <a:xfrm>
            <a:off x="5381640" y="1508040"/>
            <a:ext cx="944640" cy="943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8" descr="Картинки по запросу дорога иконка"/>
          <p:cNvPicPr/>
          <p:nvPr/>
        </p:nvPicPr>
        <p:blipFill>
          <a:blip r:embed="rId5"/>
          <a:stretch/>
        </p:blipFill>
        <p:spPr>
          <a:xfrm>
            <a:off x="7547040" y="1471680"/>
            <a:ext cx="1033560" cy="1035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0" descr="Картинки по запросу соц услуги "/>
          <p:cNvPicPr/>
          <p:nvPr/>
        </p:nvPicPr>
        <p:blipFill>
          <a:blip r:embed="rId6"/>
          <a:stretch/>
        </p:blipFill>
        <p:spPr>
          <a:xfrm>
            <a:off x="592200" y="3487680"/>
            <a:ext cx="1035000" cy="1035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2" descr="Похожее изображение"/>
          <p:cNvPicPr/>
          <p:nvPr/>
        </p:nvPicPr>
        <p:blipFill>
          <a:blip r:embed="rId7"/>
          <a:stretch/>
        </p:blipFill>
        <p:spPr>
          <a:xfrm>
            <a:off x="2824200" y="3522600"/>
            <a:ext cx="1444680" cy="1082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0" descr="Картинки по запросу жкх"/>
          <p:cNvPicPr/>
          <p:nvPr/>
        </p:nvPicPr>
        <p:blipFill>
          <a:blip r:embed="rId8"/>
          <a:stretch/>
        </p:blipFill>
        <p:spPr>
          <a:xfrm>
            <a:off x="7445520" y="3308400"/>
            <a:ext cx="1212840" cy="1230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2" descr="Картинки по запросу нефть"/>
          <p:cNvPicPr/>
          <p:nvPr/>
        </p:nvPicPr>
        <p:blipFill>
          <a:blip r:embed="rId9"/>
          <a:stretch/>
        </p:blipFill>
        <p:spPr>
          <a:xfrm>
            <a:off x="271440" y="5297400"/>
            <a:ext cx="1676520" cy="1106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4" descr="Картинки по запросу промышленность вектор"/>
          <p:cNvPicPr/>
          <p:nvPr/>
        </p:nvPicPr>
        <p:blipFill>
          <a:blip r:embed="rId10"/>
          <a:stretch/>
        </p:blipFill>
        <p:spPr>
          <a:xfrm>
            <a:off x="3009960" y="513252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0" descr=""/>
          <p:cNvPicPr/>
          <p:nvPr/>
        </p:nvPicPr>
        <p:blipFill>
          <a:blip r:embed="rId11"/>
          <a:stretch/>
        </p:blipFill>
        <p:spPr>
          <a:xfrm>
            <a:off x="5373720" y="5157720"/>
            <a:ext cx="1044720" cy="112392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1" descr=""/>
          <p:cNvPicPr/>
          <p:nvPr/>
        </p:nvPicPr>
        <p:blipFill>
          <a:blip r:embed="rId12"/>
          <a:stretch/>
        </p:blipFill>
        <p:spPr>
          <a:xfrm>
            <a:off x="7099200" y="5184720"/>
            <a:ext cx="17589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24000" y="1052640"/>
            <a:ext cx="8424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c8c93"/>
                </a:solidFill>
                <a:latin typeface="Arial"/>
              </a:rPr>
              <a:t>Здравоохранение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еспечение взаимозаменяемости лекарственных препаратов и медицинских изделий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нижение цен на лекарственные препараты и медицинские изделия, повышение их доступности для граждан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C75C-8196-4A6B-B526-1AC4F5ABF25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Заголовок 1"/>
          <p:cNvSpPr/>
          <p:nvPr/>
        </p:nvSpPr>
        <p:spPr>
          <a:xfrm>
            <a:off x="-1116000" y="27000"/>
            <a:ext cx="10260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Приоритетные отрасли для развития конкур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Объект 2"/>
          <p:cNvSpPr/>
          <p:nvPr/>
        </p:nvSpPr>
        <p:spPr>
          <a:xfrm>
            <a:off x="324000" y="3851280"/>
            <a:ext cx="84438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c8c93"/>
                </a:solidFill>
                <a:latin typeface="Arial"/>
                <a:ea typeface="ＭＳ Ｐゴシック"/>
              </a:rPr>
              <a:t>Рынок социальных услу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обеспечение возможности участия в оказании социальных услуг негосударственным организациям на недискриминационной осн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71160" y="855360"/>
            <a:ext cx="8372520" cy="21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c8c93"/>
                </a:solidFill>
                <a:latin typeface="Arial"/>
              </a:rPr>
              <a:t>Агропромышленный комплекс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нижение зависимости внутреннего рынка от иностранного селекционного и генетического материалов и связанных с ними агротехнологических решений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5999-4753-422D-B03E-1F648D58952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Заголовок 1"/>
          <p:cNvSpPr/>
          <p:nvPr/>
        </p:nvSpPr>
        <p:spPr>
          <a:xfrm>
            <a:off x="-1116000" y="27000"/>
            <a:ext cx="10260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Приоритетные отрасли для развития конкур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Объект 2"/>
          <p:cNvSpPr/>
          <p:nvPr/>
        </p:nvSpPr>
        <p:spPr>
          <a:xfrm>
            <a:off x="468360" y="4954680"/>
            <a:ext cx="83725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c8c93"/>
                </a:solidFill>
                <a:latin typeface="Arial"/>
                <a:ea typeface="ＭＳ Ｐゴシック"/>
              </a:rPr>
              <a:t>Телекоммуникация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технологическая нейтр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ликвидация роумин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Объект 2"/>
          <p:cNvSpPr/>
          <p:nvPr/>
        </p:nvSpPr>
        <p:spPr>
          <a:xfrm>
            <a:off x="371520" y="2952720"/>
            <a:ext cx="83296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c8c93"/>
                </a:solidFill>
                <a:latin typeface="Arial"/>
                <a:ea typeface="ＭＳ Ｐゴシック"/>
              </a:rPr>
              <a:t>Дорожное строительст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декартелизация сферы дорожного строительства, в том числе при осуществлении государственных закупок на содержание, ремонт и строительство объектов дорожного хозя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7440" y="952560"/>
            <a:ext cx="83725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8c93"/>
                </a:solidFill>
                <a:latin typeface="Arial"/>
              </a:rPr>
              <a:t>Информационные технологии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вышение доли российских программных продуктов в сфере информационных технологий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1017-023D-464A-A992-898DB38A29BE}" type="slidenum">
              <a:rPr b="0" lang="ru-RU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Заголовок 1"/>
          <p:cNvSpPr/>
          <p:nvPr/>
        </p:nvSpPr>
        <p:spPr>
          <a:xfrm>
            <a:off x="-1116000" y="27000"/>
            <a:ext cx="10260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Приоритетные отрасли для развития конкур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Объект 2"/>
          <p:cNvSpPr/>
          <p:nvPr/>
        </p:nvSpPr>
        <p:spPr>
          <a:xfrm>
            <a:off x="324000" y="2463840"/>
            <a:ext cx="83721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8c93"/>
                </a:solidFill>
                <a:latin typeface="Arial"/>
                <a:ea typeface="ＭＳ Ｐゴシック"/>
              </a:rPr>
              <a:t>Жилищно-коммунальное хозяйство, в том числе теплоснабжение, водоснабжение, водоотвед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сокращение доли полезного отпуска ресурсов, реализуемых ГУПами и МУП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Объект 2"/>
          <p:cNvSpPr/>
          <p:nvPr/>
        </p:nvSpPr>
        <p:spPr>
          <a:xfrm>
            <a:off x="324000" y="4768920"/>
            <a:ext cx="837216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8c93"/>
                </a:solidFill>
                <a:latin typeface="Arial"/>
                <a:ea typeface="ＭＳ Ｐゴシック"/>
              </a:rPr>
              <a:t>Газоснабжение, нефть и нефтепродукты</a:t>
            </a:r>
            <a:r>
              <a:rPr b="1" lang="ru-RU" sz="3200" spc="-1" strike="noStrike">
                <a:solidFill>
                  <a:srgbClr val="3c8c93"/>
                </a:solidFill>
                <a:latin typeface="Arial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ереход к рыночному ценообразованию путем формирования биржевых и внебиржевых индикаторов цен на природный г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325760" y="1833120"/>
            <a:ext cx="4788000" cy="29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C263-F3FC-42C6-AECE-462F961C113B}" type="slidenum">
              <a:rPr b="0" lang="ru-RU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395280" y="1344600"/>
            <a:ext cx="835344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c8c93"/>
                </a:solidFill>
                <a:latin typeface="Arial"/>
                <a:ea typeface="ＭＳ Ｐゴシック"/>
              </a:rPr>
              <a:t>К основам конституционного строя и основным правам и свободам человека и гражданина относятся*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оддержка конкурен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свобода экономической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недопущение экономической деятельности, направленной на монополизацию и недобросовестную конкурен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4716360" y="6175440"/>
            <a:ext cx="43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c8c93"/>
                </a:solidFill>
                <a:latin typeface="Arial"/>
                <a:ea typeface="ＭＳ Ｐゴシック"/>
              </a:rPr>
              <a:t>Ст. 8 и 34 Конституции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9000" y="44280"/>
            <a:ext cx="793116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ы государственной политики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06080" y="1190160"/>
            <a:ext cx="8713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8c93"/>
                </a:solidFill>
                <a:latin typeface="Arial"/>
              </a:rPr>
              <a:t>Транспортные услуги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звитие добросовестной конкуренции на рынке грузовых перевозок и связанных с ними услуг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омплексное развитие межрегиональных и муниципальных перевозок различными видами транспорт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9EA5-B8D8-4D5D-A191-A6109618770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Заголовок 1"/>
          <p:cNvSpPr/>
          <p:nvPr/>
        </p:nvSpPr>
        <p:spPr>
          <a:xfrm>
            <a:off x="-1116000" y="27000"/>
            <a:ext cx="10260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Приоритетные отрасли для развития конкур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Объект 2"/>
          <p:cNvSpPr/>
          <p:nvPr/>
        </p:nvSpPr>
        <p:spPr>
          <a:xfrm>
            <a:off x="406440" y="3860640"/>
            <a:ext cx="83725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8c93"/>
                </a:solidFill>
                <a:latin typeface="Arial"/>
                <a:ea typeface="ＭＳ Ｐゴシック"/>
              </a:rPr>
              <a:t>Промышленнос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создание условий для производства российских товаров, способных эффективно конкурировать с зарубежными аналогами на внутреннем и внешнем рын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Заголовок 1"/>
          <p:cNvSpPr/>
          <p:nvPr/>
        </p:nvSpPr>
        <p:spPr>
          <a:xfrm>
            <a:off x="395280" y="1055520"/>
            <a:ext cx="8280360" cy="55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Конкуренция – основа экономической безопасности госуда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62673"/>
                </a:solidFill>
                <a:latin typeface="Arial"/>
                <a:ea typeface="ＭＳ Ｐゴシック"/>
              </a:rPr>
              <a:t>	</a:t>
            </a:r>
            <a:r>
              <a:rPr b="1" lang="ru-RU" sz="2600" spc="-1" strike="noStrike">
                <a:solidFill>
                  <a:srgbClr val="262673"/>
                </a:solidFill>
                <a:latin typeface="Arial"/>
                <a:ea typeface="ＭＳ Ｐゴシック"/>
              </a:rPr>
              <a:t>В целях развития и защиты конкуренции необходимо обеспечить синергию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26267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62673"/>
                </a:solidFill>
                <a:latin typeface="Arial"/>
                <a:ea typeface="ＭＳ Ｐゴシック"/>
              </a:rPr>
              <a:t>законодательной, исполнительной и судебной вла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26267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62673"/>
                </a:solidFill>
                <a:latin typeface="Arial"/>
                <a:ea typeface="ＭＳ Ｐゴシック"/>
              </a:rPr>
              <a:t>федеральных, региональных и муниципальных власт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26267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62673"/>
                </a:solidFill>
                <a:latin typeface="Arial"/>
                <a:ea typeface="ＭＳ Ｐゴシック"/>
              </a:rPr>
              <a:t>институтов гражданского обществ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7010280" y="6608880"/>
            <a:ext cx="21337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252F-8BA7-4637-B9BF-E60887E885E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Заголовок 1"/>
          <p:cNvSpPr/>
          <p:nvPr/>
        </p:nvSpPr>
        <p:spPr>
          <a:xfrm>
            <a:off x="852480" y="139680"/>
            <a:ext cx="8002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Синергия взаимо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омер слайда 5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CF23-D0F4-4049-BE8A-C722AE130279}" type="slidenum">
              <a:rPr b="0" lang="ru-RU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Заголовок 1"/>
          <p:cNvSpPr/>
          <p:nvPr/>
        </p:nvSpPr>
        <p:spPr>
          <a:xfrm>
            <a:off x="-12600" y="0"/>
            <a:ext cx="90248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Основные меро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4"/>
          <p:cNvSpPr/>
          <p:nvPr/>
        </p:nvSpPr>
        <p:spPr>
          <a:xfrm>
            <a:off x="324000" y="1647720"/>
            <a:ext cx="84960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Основные поручения Правительству Р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твердить планы мероприятий по развитию конкуренции на 2018 - 2020 годы в отраслях экономики Российской Федерации с определением в них перечней ключевых показа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твердить план мероприятий по переходу отдельных сфер естественных монополий из состояния естественной монополии в состояние конкурентного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5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ECD6-5065-4C05-B03A-B212A3280605}" type="slidenum">
              <a:rPr b="0" lang="ru-RU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Заголовок 1"/>
          <p:cNvSpPr/>
          <p:nvPr/>
        </p:nvSpPr>
        <p:spPr>
          <a:xfrm>
            <a:off x="-12600" y="0"/>
            <a:ext cx="90248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Основные меро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"/>
          <p:cNvSpPr/>
          <p:nvPr/>
        </p:nvSpPr>
        <p:spPr>
          <a:xfrm>
            <a:off x="395280" y="4606920"/>
            <a:ext cx="82821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Общественной палате Российской Федер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26267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Предложить создание совещательных органов по развитию конкуренции на базе общественно-консультативных советов ФАС России во всех субъектах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4"/>
          <p:cNvSpPr/>
          <p:nvPr/>
        </p:nvSpPr>
        <p:spPr>
          <a:xfrm>
            <a:off x="395280" y="2828880"/>
            <a:ext cx="84978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Органам власти субъектов Р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26267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Активизировать работу по развитию конкуренции в субъектах Российской Федерации, в том числе на основе Стандарта развития конкур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5"/>
          <p:cNvSpPr/>
          <p:nvPr/>
        </p:nvSpPr>
        <p:spPr>
          <a:xfrm>
            <a:off x="395280" y="985680"/>
            <a:ext cx="84978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Генеральной прокуратуре Р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26267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Обеспечить координацию деятельности правоохранительных органов в целях предупреждения и пресечения кар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Номер слайда 2"/>
          <p:cNvSpPr/>
          <p:nvPr/>
        </p:nvSpPr>
        <p:spPr>
          <a:xfrm>
            <a:off x="6999120" y="6607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5E64-B4DD-41E2-BF99-CB261DF0394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Заголовок 1"/>
          <p:cNvSpPr/>
          <p:nvPr/>
        </p:nvSpPr>
        <p:spPr>
          <a:xfrm>
            <a:off x="108000" y="44280"/>
            <a:ext cx="902484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Законодательные инициат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36240" y="2419200"/>
            <a:ext cx="85676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нятие Федерального закона о государственном регулировании цен (тарифов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формирование естественных монополий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ведение принудительного патента в целях охраны жизни и здоровья граждан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конодательное закрепление антимонопольного комплаенс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граничение создания унитарных предприятий на конкурентных рынках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Прямоугольник 5"/>
          <p:cNvSpPr/>
          <p:nvPr/>
        </p:nvSpPr>
        <p:spPr>
          <a:xfrm>
            <a:off x="250920" y="119052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ля достижения целей и решения задач должна быть создана нормативная ба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3"/>
          <p:cNvSpPr/>
          <p:nvPr/>
        </p:nvSpPr>
        <p:spPr>
          <a:xfrm>
            <a:off x="358920" y="1320840"/>
            <a:ext cx="8555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4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876"/>
                </a:solidFill>
                <a:latin typeface="Arial"/>
              </a:rPr>
              <a:t>C</a:t>
            </a:r>
            <a:r>
              <a:rPr b="1" lang="ru-RU" sz="4000" spc="-1" strike="noStrike">
                <a:solidFill>
                  <a:srgbClr val="006876"/>
                </a:solidFill>
                <a:latin typeface="Arial"/>
              </a:rPr>
              <a:t>пасибо</a:t>
            </a:r>
            <a:r>
              <a:rPr b="1" lang="ru-RU" sz="4300" spc="-1" strike="noStrike">
                <a:solidFill>
                  <a:srgbClr val="006876"/>
                </a:solidFill>
                <a:latin typeface="Arial"/>
              </a:rPr>
              <a:t> за внимание</a:t>
            </a:r>
            <a:r>
              <a:rPr b="1" lang="ru-RU" sz="4300" spc="-1" strike="noStrike">
                <a:solidFill>
                  <a:srgbClr val="006876"/>
                </a:solidFill>
                <a:latin typeface="Trebuchet MS"/>
              </a:rPr>
              <a:t>!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"/>
          <p:cNvSpPr/>
          <p:nvPr/>
        </p:nvSpPr>
        <p:spPr>
          <a:xfrm>
            <a:off x="1533600" y="2046240"/>
            <a:ext cx="303840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876"/>
                </a:solidFill>
                <a:latin typeface="Trebuchet MS"/>
                <a:ea typeface="ＭＳ Ｐゴシック"/>
              </a:rPr>
              <a:t>www.fas.gov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876"/>
                </a:solidFill>
                <a:latin typeface="Trebuchet MS"/>
                <a:ea typeface="ＭＳ Ｐゴシック"/>
              </a:rPr>
              <a:t>en.fas.gov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876"/>
                </a:solidFill>
                <a:latin typeface="Trebuchet MS"/>
                <a:ea typeface="ＭＳ Ｐゴシック"/>
              </a:rPr>
              <a:t>anticartel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9"/>
          <p:cNvSpPr/>
          <p:nvPr/>
        </p:nvSpPr>
        <p:spPr>
          <a:xfrm>
            <a:off x="1344600" y="3392640"/>
            <a:ext cx="19558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876"/>
                </a:solidFill>
                <a:latin typeface="Trebuchet MS"/>
                <a:ea typeface="ＭＳ Ｐゴシック"/>
              </a:rPr>
              <a:t>     </a:t>
            </a:r>
            <a:r>
              <a:rPr b="0" lang="en-US" sz="1400" spc="-1" strike="noStrike">
                <a:solidFill>
                  <a:srgbClr val="006876"/>
                </a:solidFill>
                <a:latin typeface="Trebuchet MS"/>
                <a:ea typeface="ＭＳ Ｐゴシック"/>
              </a:rPr>
              <a:t>@rus.f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0"/>
          <p:cNvSpPr/>
          <p:nvPr/>
        </p:nvSpPr>
        <p:spPr>
          <a:xfrm>
            <a:off x="1344600" y="5699160"/>
            <a:ext cx="2386080" cy="5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876"/>
                </a:solidFill>
                <a:latin typeface="Trebuchet MS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6876"/>
                </a:solidFill>
                <a:latin typeface="Trebuchet MS"/>
                <a:ea typeface="ＭＳ Ｐゴシック"/>
              </a:rPr>
              <a:t>rus_f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876"/>
                </a:solidFill>
                <a:latin typeface="Trebuchet MS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6876"/>
                </a:solidFill>
                <a:latin typeface="Trebuchet MS"/>
                <a:ea typeface="ＭＳ Ｐゴシック"/>
              </a:rPr>
              <a:t>fas_rf </a:t>
            </a:r>
            <a:r>
              <a:rPr b="0" lang="en-US" sz="1600" spc="-1" strike="noStrike">
                <a:solidFill>
                  <a:srgbClr val="006876"/>
                </a:solidFill>
                <a:latin typeface="Trebuchet MS"/>
                <a:ea typeface="ＭＳ Ｐゴシック"/>
              </a:rPr>
              <a:t>(engli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7"/>
          <p:cNvSpPr/>
          <p:nvPr/>
        </p:nvSpPr>
        <p:spPr>
          <a:xfrm>
            <a:off x="1533600" y="4599000"/>
            <a:ext cx="10033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876"/>
                </a:solidFill>
                <a:latin typeface="Trebuchet MS"/>
                <a:ea typeface="ＭＳ Ｐゴシック"/>
              </a:rPr>
              <a:t>fas_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Рисунок 18" descr=""/>
          <p:cNvPicPr/>
          <p:nvPr/>
        </p:nvPicPr>
        <p:blipFill>
          <a:blip r:embed="rId1"/>
          <a:stretch/>
        </p:blipFill>
        <p:spPr>
          <a:xfrm>
            <a:off x="358920" y="4545000"/>
            <a:ext cx="1272960" cy="7826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9" descr=""/>
          <p:cNvPicPr/>
          <p:nvPr/>
        </p:nvPicPr>
        <p:blipFill>
          <a:blip r:embed="rId2"/>
          <a:stretch/>
        </p:blipFill>
        <p:spPr>
          <a:xfrm>
            <a:off x="658800" y="5637240"/>
            <a:ext cx="704880" cy="7048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9"/>
          <p:cNvSpPr/>
          <p:nvPr/>
        </p:nvSpPr>
        <p:spPr>
          <a:xfrm>
            <a:off x="5794200" y="4622760"/>
            <a:ext cx="16243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876"/>
                </a:solidFill>
                <a:latin typeface="Trebuchet MS"/>
                <a:ea typeface="ＭＳ Ｐゴシック"/>
              </a:rPr>
              <a:t>fas_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21"/>
          <p:cNvSpPr/>
          <p:nvPr/>
        </p:nvSpPr>
        <p:spPr>
          <a:xfrm>
            <a:off x="5378040" y="2232000"/>
            <a:ext cx="218340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876"/>
                </a:solidFill>
                <a:latin typeface="Trebuchet MS"/>
                <a:ea typeface="ＭＳ Ｐゴシック"/>
              </a:rPr>
              <a:t>FASvideo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Рисунок 22" descr=""/>
          <p:cNvPicPr/>
          <p:nvPr/>
        </p:nvPicPr>
        <p:blipFill>
          <a:blip r:embed="rId3"/>
          <a:stretch/>
        </p:blipFill>
        <p:spPr>
          <a:xfrm>
            <a:off x="4957920" y="4570560"/>
            <a:ext cx="701640" cy="70308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0"/>
          <p:cNvSpPr/>
          <p:nvPr/>
        </p:nvSpPr>
        <p:spPr>
          <a:xfrm>
            <a:off x="5827680" y="3414600"/>
            <a:ext cx="17478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876"/>
                </a:solidFill>
                <a:latin typeface="Trebuchet MS"/>
                <a:ea typeface="ＭＳ Ｐゴシック"/>
              </a:rPr>
              <a:t>FAS Rus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24" descr=""/>
          <p:cNvPicPr/>
          <p:nvPr/>
        </p:nvPicPr>
        <p:blipFill>
          <a:blip r:embed="rId4"/>
          <a:stretch/>
        </p:blipFill>
        <p:spPr>
          <a:xfrm>
            <a:off x="4957920" y="3308400"/>
            <a:ext cx="691920" cy="71100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25" descr=""/>
          <p:cNvPicPr/>
          <p:nvPr/>
        </p:nvPicPr>
        <p:blipFill>
          <a:blip r:embed="rId5"/>
          <a:stretch/>
        </p:blipFill>
        <p:spPr>
          <a:xfrm>
            <a:off x="4905360" y="2141640"/>
            <a:ext cx="695520" cy="69840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26" descr=""/>
          <p:cNvPicPr/>
          <p:nvPr/>
        </p:nvPicPr>
        <p:blipFill>
          <a:blip r:embed="rId6"/>
          <a:stretch/>
        </p:blipFill>
        <p:spPr>
          <a:xfrm>
            <a:off x="479520" y="1920960"/>
            <a:ext cx="1063440" cy="110016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27" descr=""/>
          <p:cNvPicPr/>
          <p:nvPr/>
        </p:nvPicPr>
        <p:blipFill>
          <a:blip r:embed="rId7"/>
          <a:stretch/>
        </p:blipFill>
        <p:spPr>
          <a:xfrm>
            <a:off x="4954680" y="5607000"/>
            <a:ext cx="738000" cy="76356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0"/>
          <p:cNvSpPr/>
          <p:nvPr/>
        </p:nvSpPr>
        <p:spPr>
          <a:xfrm>
            <a:off x="5794200" y="5673600"/>
            <a:ext cx="17481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876"/>
                </a:solidFill>
                <a:latin typeface="Trebuchet MS"/>
                <a:ea typeface="ＭＳ Ｐゴシック"/>
              </a:rPr>
              <a:t>fasrus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Рисунок 29" descr=""/>
          <p:cNvPicPr/>
          <p:nvPr/>
        </p:nvPicPr>
        <p:blipFill>
          <a:blip r:embed="rId8"/>
          <a:stretch/>
        </p:blipFill>
        <p:spPr>
          <a:xfrm>
            <a:off x="565200" y="3309840"/>
            <a:ext cx="790560" cy="7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22320" y="1895400"/>
            <a:ext cx="3357360" cy="2355840"/>
          </a:xfrm>
          <a:prstGeom prst="rect">
            <a:avLst/>
          </a:prstGeom>
          <a:ln w="0">
            <a:noFill/>
          </a:ln>
        </p:spPr>
      </p:pic>
      <p:sp>
        <p:nvSpPr>
          <p:cNvPr id="97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E8A8-CB84-4DE6-B220-35A2D599A439}" type="slidenum">
              <a:rPr b="0" lang="ru-RU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291960" y="1170000"/>
            <a:ext cx="849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8080"/>
                </a:solidFill>
                <a:latin typeface="Arial"/>
                <a:ea typeface="ＭＳ Ｐゴシック"/>
              </a:rPr>
              <a:t>Радикальная модернизация </a:t>
            </a:r>
            <a:r>
              <a:rPr b="0" lang="ru-RU" sz="2500" spc="-1" strike="noStrike">
                <a:solidFill>
                  <a:srgbClr val="008080"/>
                </a:solidFill>
                <a:latin typeface="Arial"/>
                <a:ea typeface="ＭＳ Ｐゴシック"/>
              </a:rPr>
              <a:t>антимонопольного законодательств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"/>
          <p:cNvSpPr/>
          <p:nvPr/>
        </p:nvSpPr>
        <p:spPr>
          <a:xfrm>
            <a:off x="3225960" y="1763640"/>
            <a:ext cx="576072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«первый антимонопольный пакет», (2006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«второй антимонопольный пакет», (2009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«третий антимонопольный пакет», (201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«четвертый антимонопольный пакет», (20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40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400" bIns="41400" anchor="t">
            <a:noAutofit/>
          </a:bodyPr>
          <a:p>
            <a:pPr indent="0" algn="r">
              <a:lnSpc>
                <a:spcPts val="202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Модернизация законодательства</a:t>
            </a:r>
            <a:endParaRPr b="0" lang="en-US" sz="2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635040" y="538020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  <a:ea typeface="ＭＳ Ｐゴシック"/>
              </a:rPr>
              <a:t>Российское антимонопольное законодательство соответствует лучшим мировым практи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9C28-A51E-4148-BC19-B28E98DBD5B6}" type="slidenum">
              <a:rPr b="0" lang="ru-RU" sz="1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776160" y="879480"/>
            <a:ext cx="7945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ФАС – </a:t>
            </a:r>
            <a:r>
              <a:rPr b="1" lang="ru-RU" sz="29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орган предупредительного контрол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"/>
          <p:cNvSpPr/>
          <p:nvPr/>
        </p:nvSpPr>
        <p:spPr>
          <a:xfrm>
            <a:off x="5580000" y="1484280"/>
            <a:ext cx="3449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Введенные в 2012 г. инструменты предупреждения и предостережения доказали свою эффе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Исполнимость предупреждений антимонопольного регулятора – более 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Диаграмма 9" descr=""/>
          <p:cNvPicPr/>
          <p:nvPr/>
        </p:nvPicPr>
        <p:blipFill>
          <a:blip r:embed="rId1"/>
          <a:stretch/>
        </p:blipFill>
        <p:spPr>
          <a:xfrm>
            <a:off x="268200" y="1487520"/>
            <a:ext cx="6802560" cy="38703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428760" y="5589720"/>
            <a:ext cx="829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полугодие 2017 год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выда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216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предупреждений; возбужде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72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  <a:ea typeface="ＭＳ Ｐゴシック"/>
              </a:rPr>
              <a:t>- 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  <a:ea typeface="ＭＳ Ｐゴシック"/>
              </a:rPr>
              <a:t>тенденции развития предупредительного контроля развив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40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400" bIns="41400" anchor="t">
            <a:noAutofit/>
          </a:bodyPr>
          <a:p>
            <a:pPr indent="0" algn="r">
              <a:lnSpc>
                <a:spcPts val="202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Модернизация законодательства</a:t>
            </a:r>
            <a:endParaRPr b="0" lang="en-US" sz="25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0082-E552-42EB-B5FF-2B39C4D363B5}" type="slidenum">
              <a:rPr b="0" lang="ru-RU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"/>
          <p:cNvSpPr/>
          <p:nvPr/>
        </p:nvSpPr>
        <p:spPr>
          <a:xfrm>
            <a:off x="287280" y="930240"/>
            <a:ext cx="8569440" cy="55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c8c93"/>
                </a:solidFill>
                <a:latin typeface="Arial"/>
                <a:ea typeface="ＭＳ Ｐゴシック"/>
              </a:rPr>
              <a:t>Реформа контрольно-надзорной деятельности ФАС России стартовала в 2016 го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ФАС России концентрируется на нарушениях, имеющих значение для конкуренции в це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Снижение административной нагрузки на бизнес (введены иммунитеты для малого бизне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одготовлены законопроекты об отказе от проведения плановых проверок в сфере рекламы и регулирования тариф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одготовлены акты Правительства РФ по внедрению риск-ориентированного под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540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400" bIns="41400" anchor="t">
            <a:noAutofit/>
          </a:bodyPr>
          <a:p>
            <a:pPr indent="0" algn="r">
              <a:lnSpc>
                <a:spcPts val="202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Модернизация законодательства</a:t>
            </a:r>
            <a:endParaRPr b="0" lang="en-US" sz="25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E8B6-FD58-433A-9E15-63E72E008368}" type="slidenum">
              <a:rPr b="0" lang="ru-RU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"/>
          <p:cNvSpPr/>
          <p:nvPr/>
        </p:nvSpPr>
        <p:spPr>
          <a:xfrm>
            <a:off x="287280" y="1268280"/>
            <a:ext cx="856944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c8c93"/>
                </a:solidFill>
                <a:latin typeface="Arial"/>
                <a:ea typeface="ＭＳ Ｐゴシック"/>
              </a:rPr>
              <a:t>Применение ФАС России проконкурентных методов тарифного регулирования позволяет снижать це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конкурентные методы тарифной политики на федеральном уровне позволили обеспечить принцип «инфляция мину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Снижение цен на лек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Рассмотрение тарифных споров позволяет исключать экономически необоснованые расходы в тариф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40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400" bIns="41400" anchor="t">
            <a:noAutofit/>
          </a:bodyPr>
          <a:p>
            <a:pPr indent="0" algn="r">
              <a:lnSpc>
                <a:spcPts val="202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Модернизация законодательства</a:t>
            </a:r>
            <a:endParaRPr b="0" lang="en-US" sz="25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252360" y="960120"/>
            <a:ext cx="914400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827440" indent="0" algn="r">
              <a:lnSpc>
                <a:spcPts val="22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нергия полномочи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object 4"/>
          <p:cNvSpPr/>
          <p:nvPr/>
        </p:nvSpPr>
        <p:spPr>
          <a:xfrm>
            <a:off x="511200" y="3309840"/>
            <a:ext cx="4914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14440" indent="-514440" algn="just">
              <a:spcAft>
                <a:spcPts val="601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Антимонопольное регул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Aft>
                <a:spcPts val="601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Тарифная полит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Aft>
                <a:spcPts val="601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олитика в области  государственного заказа, в том числе оборонного зака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63F3-5811-4BEF-A4BA-1CEF9FF6B587}" type="slidenum">
              <a:rPr b="0" lang="ru-RU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5" descr=""/>
          <p:cNvPicPr/>
          <p:nvPr/>
        </p:nvPicPr>
        <p:blipFill>
          <a:blip r:embed="rId1"/>
          <a:stretch/>
        </p:blipFill>
        <p:spPr>
          <a:xfrm>
            <a:off x="5884920" y="3330720"/>
            <a:ext cx="2546280" cy="1725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-176040" y="168120"/>
            <a:ext cx="914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Синер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7"/>
          <p:cNvSpPr/>
          <p:nvPr/>
        </p:nvSpPr>
        <p:spPr>
          <a:xfrm>
            <a:off x="-176040" y="1154160"/>
            <a:ext cx="935640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8080"/>
                </a:solidFill>
                <a:latin typeface="Arial"/>
                <a:ea typeface="ＭＳ Ｐゴシック"/>
              </a:rPr>
              <a:t>Синергия полномочий антимонопольного ведомства – основа эффективности конкурентной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511200" y="5934240"/>
            <a:ext cx="838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* Антимонопольное и тарифное регулирование также совмещено в контрольных ведомствах Нидерландов и Австрал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BB35-EB43-4861-B2E3-1F0870908406}" type="slidenum">
              <a:rPr b="0" lang="ru-RU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395280" y="1133640"/>
            <a:ext cx="8505720" cy="50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Сохранились государственно-монополистические тенденции в экономи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Закон о естественных монополиях сдерживает переход естественных монополий в состояние конкурен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Во многих потенциально конкурентных сферах частный бизнес отсутствует или недостаточе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ГУПы и МУПы препятствуют развитию конкурен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77"/>
          <p:cNvSpPr/>
          <p:nvPr/>
        </p:nvSpPr>
        <p:spPr>
          <a:xfrm>
            <a:off x="36360" y="90360"/>
            <a:ext cx="9041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Проблемы развития эконом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5523-BDED-4F07-9570-B02519167FFC}" type="slidenum">
              <a:rPr b="0" lang="ru-RU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390600" y="1208160"/>
            <a:ext cx="85057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Картели – угроза национальной безопас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В 2016 году ФАС России возбуждено 692 дела об антиконкурентных соглашениях. Из них 330 дел о картелях, что на 18% больше, чем в 2015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601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80% дел о картелях – сговоры на торгах (298 дел), что на 30% больше, чем в 2015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  <a:ea typeface="ＭＳ Ｐゴシック"/>
              </a:rPr>
              <a:t>Картели стали приобретать все признаки, присущие организованным преступным группам и преступным сообщест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77"/>
          <p:cNvSpPr/>
          <p:nvPr/>
        </p:nvSpPr>
        <p:spPr>
          <a:xfrm>
            <a:off x="36360" y="90360"/>
            <a:ext cx="9041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Проблемы развития эконом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7:02:51Z</dcterms:created>
  <dc:creator>Кашунина Ирина Валерьевна</dc:creator>
  <dc:description/>
  <dc:language>en-US</dc:language>
  <cp:lastModifiedBy>to34-jakeeva</cp:lastModifiedBy>
  <cp:lastPrinted>2018-01-19T09:34:58Z</cp:lastPrinted>
  <dcterms:modified xsi:type="dcterms:W3CDTF">2018-01-23T13:49:03Z</dcterms:modified>
  <cp:revision>1812</cp:revision>
  <dc:subject/>
  <dc:title>Слайд 1</dc:title>
</cp:coreProperties>
</file>